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1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D7E9-94F2-47F0-A93A-C8BFFC875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B42E-F1FD-493C-8CFA-FA750FDBA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B85C-C50D-4390-8D47-768C63E5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EF6A-4FC2-42BF-A79C-CDF8008A0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DBA6-840B-4362-A090-90EFD8A0B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9394-4765-49FE-820B-BDDF5C931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A653-461C-47BF-B957-27F0100B6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3B4A-79EA-4B8E-8C10-884A5C974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FD5B-7227-474C-B6C9-CD800CF03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8636-E7DC-4938-BC04-0DACFF9F9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A054-0882-480E-B100-1BCFED0CD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9BFD-986A-4ABE-BD8E-0CBDBFAA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A7C9-8403-47A9-A740-640446450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381-D28B-4895-8DE1-9C822ABE5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C604-26F5-4A1A-8C61-DBBADEB36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C552-28CD-441F-8816-3D88FDB4D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DB74-14A5-4D45-84BC-21A744D2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AFD1-A6F5-4A96-9325-CB9ED8F33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1AF0-3493-471E-B77B-2BB3AD3C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8DED-2DDB-4710-9572-FB9D288E5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991-0E15-415B-BEB9-EC1E7FB27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013B-E67F-4BCF-B2F0-692A2592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3F9D-31F2-4028-BC32-5BB828E0E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6EF7-C8D5-4BD9-BB8F-73353A6F2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8AA4-E5F5-47DA-8C09-20DFEBCD5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1E00-73E4-4EE6-858C-46A14F430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2DA9-1F7D-480B-8556-716C9718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7B5F-C6B6-4D1E-A6F4-188C3814B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C44D-DD5D-440F-960E-2E90AF16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A582-B4CB-48CD-827C-2C64BCC9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679A-B0AF-47D5-91F3-8F26C5AA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D69C-2752-4358-9698-3B1C5753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ECCA-DBEA-4B50-A270-71B4FA85F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FEA6-A9FB-4180-BD46-B0942EEBF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068D-E116-4492-9D7F-9B3768515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6E34-8B70-4AB7-8393-D1BCD6FD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E9FD-7054-47BB-A0D6-20FFAD612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5E22-DFC7-4EDC-A1D4-00CF6C5B7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6BD2-F316-4F60-A7F6-5674C9C0A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204D-EA2F-43E6-B563-DF9491A3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E320-BB8D-4258-BD4D-58A7E2B0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2F3B-DA34-4E11-B365-052D8D45B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1C43-A2B1-453D-8747-2CA8F142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8D94-1C10-4452-B63C-2492C571D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1B12-4F72-466A-8BA9-5B938FE1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DF7C-E71C-47D4-888A-FC0757CED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EFFE4-245B-4550-BB0E-D25E1880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60BD-F79D-474D-B549-3706DC77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430C-D871-4E90-96FF-B1F289CC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439D-702C-42CD-8189-B7BE8E35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E487-2966-48C3-AF65-D7B9CB9E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FEA9-5832-4C46-966A-8733EE63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9E15-5AFE-43BD-B371-206C1086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B89A-D46D-4C7C-BFD8-277C0044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368B-FA6F-4B3F-96AB-C76ACB01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8AAB-C73F-456B-9241-A41FC241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62B3-94F5-4601-932E-431AD476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4369-C584-46CD-BABD-1C8C9C97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512B-239F-4D63-9CD5-0AE27874A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8024040" y="5913360"/>
              <a:ext cx="86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Bon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8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oncepts of Chemical Bonding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y accounting for all three energies (ionization energy, electron affinity, and lattice energy), we can get a good idea of the energetics involved in such a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6" name="Picture 5" descr="08_04"/>
          <p:cNvPicPr/>
          <p:nvPr/>
        </p:nvPicPr>
        <p:blipFill>
          <a:blip r:embed="rId1"/>
          <a:srcRect l="0" t="0" r="0" b="3704"/>
          <a:stretch/>
        </p:blipFill>
        <p:spPr>
          <a:xfrm>
            <a:off x="304920" y="1676520"/>
            <a:ext cx="36846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3240" y="2514600"/>
            <a:ext cx="41907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phenomena also helps explain the “octet rule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0" name="Picture 6" descr="07_T02cropped2"/>
          <p:cNvPicPr/>
          <p:nvPr/>
        </p:nvPicPr>
        <p:blipFill>
          <a:blip r:embed="rId1"/>
          <a:stretch/>
        </p:blipFill>
        <p:spPr>
          <a:xfrm>
            <a:off x="4572000" y="1828800"/>
            <a:ext cx="3809880" cy="2209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363600" y="4295880"/>
            <a:ext cx="8399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als, for instance, tend to stop losing electrons once they attain a noble gas configuration because energy would be expended that cannot be overcome by lattice ener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4343400" y="2133720"/>
            <a:ext cx="3657600" cy="114300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86200" y="167616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covalent bonds atoms shar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are several electrostatic interactions in these bonds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ttractions between electrons and nucle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Repulsions between electr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Repulsions between nucle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6" name="Picture 5" descr="08_05cropped"/>
          <p:cNvPicPr/>
          <p:nvPr/>
        </p:nvPicPr>
        <p:blipFill>
          <a:blip r:embed="rId1"/>
          <a:stretch/>
        </p:blipFill>
        <p:spPr>
          <a:xfrm>
            <a:off x="685800" y="1600200"/>
            <a:ext cx="31827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ough atoms often form compounds by sharing electrons, the electrons are not always shared equall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0" name="Picture 7" descr="08_07"/>
          <p:cNvPicPr/>
          <p:nvPr/>
        </p:nvPicPr>
        <p:blipFill>
          <a:blip r:embed="rId1"/>
          <a:srcRect l="0" t="0" r="34001" b="5905"/>
          <a:stretch/>
        </p:blipFill>
        <p:spPr>
          <a:xfrm>
            <a:off x="228600" y="2057400"/>
            <a:ext cx="4495680" cy="2035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380880" y="4419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luorine pulls harder on the electrons it shares with hydrogen than hydrogen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65040" y="5332320"/>
            <a:ext cx="786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the fluorine end of the molecule has more electron density than the hydrogen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egativ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lectronegativity is the ability of atoms in a molecule to attract electrons to themselv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 the periodic chart, electronegativity increases as you go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rom left to right across a row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rom the bottom to the top of a column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6" name="Picture 7" descr="08_06cropped"/>
          <p:cNvPicPr/>
          <p:nvPr/>
        </p:nvPicPr>
        <p:blipFill>
          <a:blip r:embed="rId1"/>
          <a:stretch/>
        </p:blipFill>
        <p:spPr>
          <a:xfrm>
            <a:off x="4648320" y="1854360"/>
            <a:ext cx="449568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08_08"/>
          <p:cNvPicPr/>
          <p:nvPr/>
        </p:nvPicPr>
        <p:blipFill>
          <a:blip r:embed="rId1"/>
          <a:srcRect l="0" t="0" r="0" b="6095"/>
          <a:stretch/>
        </p:blipFill>
        <p:spPr>
          <a:xfrm>
            <a:off x="4952880" y="2759040"/>
            <a:ext cx="4114800" cy="1584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5257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two atoms share electrons unequally, a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bond dipol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resul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dipole mo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produced by two equal but opposite charges separated by a distance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is calculated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c82e32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measured in debyes (D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943600" y="1980720"/>
            <a:ext cx="3200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greater the difference in electronegativity, the more polar is the b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4" name="Picture 9" descr="08_09"/>
          <p:cNvPicPr/>
          <p:nvPr/>
        </p:nvPicPr>
        <p:blipFill>
          <a:blip r:embed="rId1"/>
          <a:srcRect l="0" t="0" r="0" b="8228"/>
          <a:stretch/>
        </p:blipFill>
        <p:spPr>
          <a:xfrm>
            <a:off x="838080" y="4267080"/>
            <a:ext cx="7162920" cy="1773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08_T03"/>
          <p:cNvPicPr/>
          <p:nvPr/>
        </p:nvPicPr>
        <p:blipFill>
          <a:blip r:embed="rId2"/>
          <a:srcRect l="0" t="20580" r="0" b="6777"/>
          <a:stretch/>
        </p:blipFill>
        <p:spPr>
          <a:xfrm>
            <a:off x="304920" y="1905120"/>
            <a:ext cx="5333760" cy="1676160"/>
          </a:xfrm>
          <a:prstGeom prst="rect">
            <a:avLst/>
          </a:prstGeom>
          <a:ln w="0">
            <a:noFill/>
          </a:ln>
        </p:spPr>
      </p:pic>
      <p:sp>
        <p:nvSpPr>
          <p:cNvPr id="126" name="Line 13"/>
          <p:cNvSpPr/>
          <p:nvPr/>
        </p:nvSpPr>
        <p:spPr>
          <a:xfrm>
            <a:off x="533520" y="1916280"/>
            <a:ext cx="4038480" cy="0"/>
          </a:xfrm>
          <a:prstGeom prst="line">
            <a:avLst/>
          </a:prstGeom>
          <a:ln w="381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wis structures are representations of molecules showing all electrons, bonding and nonbond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0" name="Picture 14" descr="08_05-03UN"/>
          <p:cNvPicPr/>
          <p:nvPr/>
        </p:nvPicPr>
        <p:blipFill>
          <a:blip r:embed="rId1"/>
          <a:srcRect l="0" t="0" r="0" b="16566"/>
          <a:stretch/>
        </p:blipFill>
        <p:spPr>
          <a:xfrm>
            <a:off x="685800" y="228600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nd the sum of valence electrons of all atoms in the polyatomic ion or molecu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f it is an anion, add one electron for each negative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f it is a cation, subtract one electron for each positive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371600" y="1980720"/>
            <a:ext cx="2286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PCl</a:t>
            </a:r>
            <a:r>
              <a:rPr b="0" lang="en-US" sz="8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221480" y="41911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4"/>
                </a:solidFill>
                <a:latin typeface="Arial"/>
              </a:rPr>
              <a:t>5   +  3(7) =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21"/>
          <p:cNvCxnSpPr>
            <a:stCxn id="135" idx="1"/>
            <a:endCxn id="134" idx="1"/>
          </p:cNvCxnSpPr>
          <p:nvPr/>
        </p:nvCxnSpPr>
        <p:spPr>
          <a:xfrm flipH="1" rot="10800000">
            <a:off x="1218240" y="2818800"/>
            <a:ext cx="153000" cy="1662840"/>
          </a:xfrm>
          <a:prstGeom prst="curvedConnector5">
            <a:avLst>
              <a:gd name="adj1" fmla="val -270754"/>
              <a:gd name="adj2" fmla="val 50000"/>
              <a:gd name="adj3" fmla="val -270754"/>
            </a:avLst>
          </a:prstGeom>
          <a:ln w="9360">
            <a:solidFill>
              <a:srgbClr val="001964"/>
            </a:solidFill>
            <a:miter/>
            <a:tailEnd len="med" type="triangle" w="med"/>
          </a:ln>
        </p:spPr>
      </p:cxnSp>
      <p:sp>
        <p:nvSpPr>
          <p:cNvPr id="137" name="Freeform 25"/>
          <p:cNvSpPr/>
          <p:nvPr/>
        </p:nvSpPr>
        <p:spPr>
          <a:xfrm>
            <a:off x="2895480" y="2662200"/>
            <a:ext cx="1122480" cy="1604880"/>
          </a:xfrm>
          <a:custGeom>
            <a:avLst/>
            <a:gdLst/>
            <a:ahLst/>
            <a:rect l="l" t="t" r="r" b="b"/>
            <a:pathLst>
              <a:path w="707" h="1011">
                <a:moveTo>
                  <a:pt x="0" y="1011"/>
                </a:moveTo>
                <a:cubicBezTo>
                  <a:pt x="102" y="929"/>
                  <a:pt x="523" y="675"/>
                  <a:pt x="615" y="521"/>
                </a:cubicBezTo>
                <a:cubicBezTo>
                  <a:pt x="707" y="367"/>
                  <a:pt x="627" y="172"/>
                  <a:pt x="553" y="86"/>
                </a:cubicBezTo>
                <a:cubicBezTo>
                  <a:pt x="479" y="0"/>
                  <a:pt x="248" y="20"/>
                  <a:pt x="168" y="3"/>
                </a:cubicBezTo>
              </a:path>
            </a:pathLst>
          </a:custGeom>
          <a:noFill/>
          <a:ln w="9360">
            <a:solidFill>
              <a:srgbClr val="00196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central atom is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electronegative element that isn’t hydrogen.  Connect the outer atoms to it by single bon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02760" y="5105520"/>
            <a:ext cx="451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none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08_01covalent"/>
          <p:cNvPicPr/>
          <p:nvPr/>
        </p:nvPicPr>
        <p:blipFill>
          <a:blip r:embed="rId1"/>
          <a:stretch/>
        </p:blipFill>
        <p:spPr>
          <a:xfrm>
            <a:off x="2209680" y="3200400"/>
            <a:ext cx="2075040" cy="183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08_01covalenttrans"/>
          <p:cNvPicPr/>
          <p:nvPr/>
        </p:nvPicPr>
        <p:blipFill>
          <a:blip r:embed="rId2"/>
          <a:stretch/>
        </p:blipFill>
        <p:spPr>
          <a:xfrm>
            <a:off x="2209680" y="3200400"/>
            <a:ext cx="2075040" cy="1833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6200" y="16761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ree basic types of bond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ic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static attraction between i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valent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haring of electr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allic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etal atoms bonded to several other atom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8" name="Picture 8" descr="08_01covalent"/>
          <p:cNvPicPr/>
          <p:nvPr/>
        </p:nvPicPr>
        <p:blipFill>
          <a:blip r:embed="rId3"/>
          <a:stretch/>
        </p:blipFill>
        <p:spPr>
          <a:xfrm>
            <a:off x="380880" y="1598760"/>
            <a:ext cx="1938600" cy="183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08_01ionictrans"/>
          <p:cNvPicPr/>
          <p:nvPr/>
        </p:nvPicPr>
        <p:blipFill>
          <a:blip r:embed="rId4"/>
          <a:stretch/>
        </p:blipFill>
        <p:spPr>
          <a:xfrm>
            <a:off x="380880" y="1587600"/>
            <a:ext cx="1938600" cy="1830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08_01metallic"/>
          <p:cNvPicPr/>
          <p:nvPr/>
        </p:nvPicPr>
        <p:blipFill>
          <a:blip r:embed="rId5"/>
          <a:stretch/>
        </p:blipFill>
        <p:spPr>
          <a:xfrm>
            <a:off x="380880" y="4800600"/>
            <a:ext cx="1938600" cy="183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ll the octets of the outer ato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6" name="Picture 7" descr="outer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302760" y="5105520"/>
            <a:ext cx="451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; 20 - 18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ll the octet of the central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1" name="Picture 5" descr="full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301680" y="5105520"/>
            <a:ext cx="53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; 20 - 18 = 2; 2 - 2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90760" y="1980720"/>
            <a:ext cx="4724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you run out of electrons before the central atom has an octet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m multiple bonds until it do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6" name="Picture 8" descr="08_09-05UNEx8-7"/>
          <p:cNvPicPr/>
          <p:nvPr/>
        </p:nvPicPr>
        <p:blipFill>
          <a:blip r:embed="rId1"/>
          <a:srcRect l="0" t="0" r="0" b="10914"/>
          <a:stretch/>
        </p:blipFill>
        <p:spPr>
          <a:xfrm>
            <a:off x="228600" y="2590920"/>
            <a:ext cx="3886200" cy="99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08_09-06UNEx8-7"/>
          <p:cNvPicPr/>
          <p:nvPr/>
        </p:nvPicPr>
        <p:blipFill>
          <a:blip r:embed="rId2"/>
          <a:srcRect l="0" t="0" r="0" b="15460"/>
          <a:stretch/>
        </p:blipFill>
        <p:spPr>
          <a:xfrm>
            <a:off x="685800" y="4938840"/>
            <a:ext cx="7315200" cy="108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9040" y="18288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n assign formal charg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or each atom, count the electrons in lone pairs and half the electrons it shares with other atom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ubtract that from the number of valence electrons for that atom:  the difference is its formal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1" name="Picture 7" descr="08_09-10UN"/>
          <p:cNvPicPr/>
          <p:nvPr/>
        </p:nvPicPr>
        <p:blipFill>
          <a:blip r:embed="rId1"/>
          <a:srcRect l="0" t="0" r="0" b="10974"/>
          <a:stretch/>
        </p:blipFill>
        <p:spPr>
          <a:xfrm>
            <a:off x="380880" y="4281480"/>
            <a:ext cx="7772400" cy="173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Withcharges"/>
          <p:cNvPicPr/>
          <p:nvPr/>
        </p:nvPicPr>
        <p:blipFill>
          <a:blip r:embed="rId1"/>
          <a:stretch/>
        </p:blipFill>
        <p:spPr>
          <a:xfrm>
            <a:off x="687240" y="4648320"/>
            <a:ext cx="7769520" cy="927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best Lewis structure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 the one with the fewest charg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uts a negative charge on the most electronegativ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6" name="Picture 11" descr="Withoutcharges"/>
          <p:cNvPicPr/>
          <p:nvPr/>
        </p:nvPicPr>
        <p:blipFill>
          <a:blip r:embed="rId2"/>
          <a:stretch/>
        </p:blipFill>
        <p:spPr>
          <a:xfrm>
            <a:off x="685800" y="4648320"/>
            <a:ext cx="7772400" cy="927000"/>
          </a:xfrm>
          <a:prstGeom prst="rect">
            <a:avLst/>
          </a:prstGeom>
          <a:ln w="0">
            <a:noFill/>
          </a:ln>
        </p:spPr>
      </p:pic>
      <p:sp>
        <p:nvSpPr>
          <p:cNvPr id="167" name="Oval 13"/>
          <p:cNvSpPr/>
          <p:nvPr/>
        </p:nvSpPr>
        <p:spPr>
          <a:xfrm>
            <a:off x="6172200" y="4876920"/>
            <a:ext cx="2362320" cy="83808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is the Lewis structure we would draw for ozone, 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1" name="Picture 7" descr="ozone"/>
          <p:cNvPicPr/>
          <p:nvPr/>
        </p:nvPicPr>
        <p:blipFill>
          <a:blip r:embed="rId1"/>
          <a:stretch/>
        </p:blipFill>
        <p:spPr>
          <a:xfrm>
            <a:off x="4876920" y="2209680"/>
            <a:ext cx="3582720" cy="1835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5106600" y="36115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49764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t this is at odds with the true, observed structure of ozone, in which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th O-O bonds are the same lengt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th outer oxygens have a charge of -1/2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7" name="Picture 5" descr="08_11"/>
          <p:cNvPicPr/>
          <p:nvPr/>
        </p:nvPicPr>
        <p:blipFill>
          <a:blip r:embed="rId1"/>
          <a:srcRect l="0" t="0" r="0" b="3074"/>
          <a:stretch/>
        </p:blipFill>
        <p:spPr>
          <a:xfrm>
            <a:off x="533520" y="1600200"/>
            <a:ext cx="29797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e Lewis structure cannot accurately depict a molecule like ozon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use multiple structures, resonance structures, to describe the molecu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1" name="Picture 5" descr="Resonance"/>
          <p:cNvPicPr/>
          <p:nvPr/>
        </p:nvPicPr>
        <p:blipFill>
          <a:blip r:embed="rId1"/>
          <a:stretch/>
        </p:blipFill>
        <p:spPr>
          <a:xfrm>
            <a:off x="4724280" y="3429000"/>
            <a:ext cx="3810240" cy="142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5724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Just as green is a synthesis of blue and yellow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zone is a synthesis of these two resonance struc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5" name="Picture 10" descr="Resonance3"/>
          <p:cNvPicPr/>
          <p:nvPr/>
        </p:nvPicPr>
        <p:blipFill>
          <a:blip r:embed="rId1"/>
          <a:stretch/>
        </p:blipFill>
        <p:spPr>
          <a:xfrm>
            <a:off x="609480" y="1600200"/>
            <a:ext cx="2614680" cy="5027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Resonance4"/>
          <p:cNvPicPr/>
          <p:nvPr/>
        </p:nvPicPr>
        <p:blipFill>
          <a:blip r:embed="rId2"/>
          <a:stretch/>
        </p:blipFill>
        <p:spPr>
          <a:xfrm>
            <a:off x="609480" y="1600200"/>
            <a:ext cx="2614680" cy="50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ruth, the electrons that form the second C-O bond in the double bonds below do not always sit between that C and that O, but rather can move among the two oxygens and the carb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not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localiz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they are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delocaliz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0" name="Picture 7" descr="08_12-04UNEx8-10"/>
          <p:cNvPicPr/>
          <p:nvPr/>
        </p:nvPicPr>
        <p:blipFill>
          <a:blip r:embed="rId1"/>
          <a:srcRect l="0" t="0" r="0" b="7690"/>
          <a:stretch/>
        </p:blipFill>
        <p:spPr>
          <a:xfrm>
            <a:off x="1125360" y="4572000"/>
            <a:ext cx="6893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Ionic Bonding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rganic compound benzene, C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has two resonance struc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commonly depicted as a hexagon with a circle inside to signify the delocalized electrons in the r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4" name="Picture 8" descr="08_13-01UN"/>
          <p:cNvPicPr/>
          <p:nvPr/>
        </p:nvPicPr>
        <p:blipFill>
          <a:blip r:embed="rId1"/>
          <a:srcRect l="0" t="0" r="0" b="5767"/>
          <a:stretch/>
        </p:blipFill>
        <p:spPr>
          <a:xfrm>
            <a:off x="533520" y="2749680"/>
            <a:ext cx="4038480" cy="1593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08_13-02UN"/>
          <p:cNvPicPr/>
          <p:nvPr/>
        </p:nvPicPr>
        <p:blipFill>
          <a:blip r:embed="rId2"/>
          <a:srcRect l="0" t="0" r="0" b="12833"/>
          <a:stretch/>
        </p:blipFill>
        <p:spPr>
          <a:xfrm>
            <a:off x="228600" y="5586480"/>
            <a:ext cx="5334120" cy="100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ceptions to the Octet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are three types of ions or molecules that do not follow the octet rule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an odd number of electron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less than an octet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more than eight valence electrons (an expanded octet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dd Number of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ough relatively rare and usually quite unstable and reactive, there are ions and molecules with an odd number of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2" name="Picture 12" descr="08_13-04UN"/>
          <p:cNvPicPr/>
          <p:nvPr/>
        </p:nvPicPr>
        <p:blipFill>
          <a:blip r:embed="rId1"/>
          <a:srcRect l="0" t="0" r="0" b="14942"/>
          <a:stretch/>
        </p:blipFill>
        <p:spPr>
          <a:xfrm>
            <a:off x="685800" y="4114800"/>
            <a:ext cx="7772400" cy="111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nsider BF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Giving boron a filled octet places a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harge on the boron and a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harge on fluorin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would not be an accurate picture of the distribution of electrons in BF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6" name="Picture 5" descr="08_13-06UN"/>
          <p:cNvPicPr/>
          <p:nvPr/>
        </p:nvPicPr>
        <p:blipFill>
          <a:blip r:embed="rId1"/>
          <a:srcRect l="0" t="0" r="0" b="11538"/>
          <a:stretch/>
        </p:blipFill>
        <p:spPr>
          <a:xfrm>
            <a:off x="849240" y="1752480"/>
            <a:ext cx="744372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structures that put a double bond between boron and fluorine are much less important than the one that leaves boron with only 6 valenc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0" name="Picture 5" descr="08_13-07UN"/>
          <p:cNvPicPr/>
          <p:nvPr/>
        </p:nvPicPr>
        <p:blipFill>
          <a:blip r:embed="rId1"/>
          <a:srcRect l="0" t="0" r="0" b="11539"/>
          <a:stretch/>
        </p:blipFill>
        <p:spPr>
          <a:xfrm>
            <a:off x="1047600" y="4343400"/>
            <a:ext cx="70470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lesson is:  if filling the octet of the central atom results in a negative charge on the central atom and a positive charge on the more electronegative outer atom, don’t fill the octet of the central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4" name="Picture 4" descr="08_13-07UN"/>
          <p:cNvPicPr/>
          <p:nvPr/>
        </p:nvPicPr>
        <p:blipFill>
          <a:blip r:embed="rId1"/>
          <a:srcRect l="0" t="0" r="0" b="11539"/>
          <a:stretch/>
        </p:blipFill>
        <p:spPr>
          <a:xfrm>
            <a:off x="1047600" y="4343400"/>
            <a:ext cx="70470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nly way P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an exist is if phosphorus has 10 electrons around i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allowed to expand the octet of atoms on the 3rd row or bel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Presumably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orbitals in these atoms participate in bonding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8" name="Picture 5" descr="08_13-09UN"/>
          <p:cNvPicPr/>
          <p:nvPr/>
        </p:nvPicPr>
        <p:blipFill>
          <a:blip r:embed="rId1"/>
          <a:srcRect l="0" t="0" r="0" b="4345"/>
          <a:stretch/>
        </p:blipFill>
        <p:spPr>
          <a:xfrm>
            <a:off x="380880" y="211932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ven though we can draw a Lewis structure for the phosphate ion that has only 8 electrons around the central phosphorus, the better structure puts a double bond between the phosphorus and one of the oxyg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2" name="Picture 5" descr="08_13-14UN"/>
          <p:cNvPicPr/>
          <p:nvPr/>
        </p:nvPicPr>
        <p:blipFill>
          <a:blip r:embed="rId1"/>
          <a:srcRect l="0" t="0" r="0" b="7583"/>
          <a:stretch/>
        </p:blipFill>
        <p:spPr>
          <a:xfrm>
            <a:off x="1541520" y="4187880"/>
            <a:ext cx="60609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eliminates the charge on the phosphorus and the charge on one of the oxyg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lesson is:  when the central atom in on the 3rd row or below and expanding its octet eliminates some formal charges, do so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6" name="Picture 4" descr="08_13-14UN"/>
          <p:cNvPicPr/>
          <p:nvPr/>
        </p:nvPicPr>
        <p:blipFill>
          <a:blip r:embed="rId1"/>
          <a:srcRect l="0" t="0" r="0" b="7583"/>
          <a:stretch/>
        </p:blipFill>
        <p:spPr>
          <a:xfrm>
            <a:off x="1541520" y="4187880"/>
            <a:ext cx="60609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valent Bon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ost simply, the strength of a bond is measured by determining how much energy is required to break the b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the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bond enthalp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bond enthalpy for a Cl-Cl bond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Cl-Cl), is measured to be 242 kJ/mo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0" name="Picture 5" descr="08_13-15UN"/>
          <p:cNvPicPr/>
          <p:nvPr/>
        </p:nvPicPr>
        <p:blipFill>
          <a:blip r:embed="rId1"/>
          <a:srcRect l="0" t="0" r="0" b="22773"/>
          <a:stretch/>
        </p:blipFill>
        <p:spPr>
          <a:xfrm>
            <a:off x="685800" y="1828800"/>
            <a:ext cx="777240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we saw in the last chapter, it takes 495 kJ/mol to remove electrons from sod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6" name="Picture 9" descr="07_T02IE"/>
          <p:cNvPicPr/>
          <p:nvPr/>
        </p:nvPicPr>
        <p:blipFill>
          <a:blip r:embed="rId1"/>
          <a:stretch/>
        </p:blipFill>
        <p:spPr>
          <a:xfrm>
            <a:off x="685800" y="2916360"/>
            <a:ext cx="380988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verage Bond Enthalp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table lists the average bond enthalpies for many different types of bon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verage bond enthalpies are positive, because bond breaking is an endothermic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4" name="Picture 8" descr="08_T04"/>
          <p:cNvPicPr/>
          <p:nvPr/>
        </p:nvPicPr>
        <p:blipFill>
          <a:blip r:embed="rId1"/>
          <a:srcRect l="0" t="0" r="0" b="4892"/>
          <a:stretch/>
        </p:blipFill>
        <p:spPr>
          <a:xfrm>
            <a:off x="4038480" y="1504800"/>
            <a:ext cx="4724640" cy="40579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9"/>
          <p:cNvSpPr/>
          <p:nvPr/>
        </p:nvSpPr>
        <p:spPr>
          <a:xfrm>
            <a:off x="4114800" y="1546200"/>
            <a:ext cx="68580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verage Bond Enthalp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TE:  These a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verag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ond enthalpies, not absolute bond enthalpies; the C-H bonds in methane, 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will be a bit different than the C-H bond in chloroform, CH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9" name="Picture 4" descr="08_T04"/>
          <p:cNvPicPr/>
          <p:nvPr/>
        </p:nvPicPr>
        <p:blipFill>
          <a:blip r:embed="rId1"/>
          <a:srcRect l="0" t="0" r="0" b="4892"/>
          <a:stretch/>
        </p:blipFill>
        <p:spPr>
          <a:xfrm>
            <a:off x="4038480" y="1504800"/>
            <a:ext cx="4724640" cy="4057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4114800" y="1546200"/>
            <a:ext cx="68580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Yet another way to estimate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reaction is to compare the bond enthalpies of bonds broken to the bond enthalpies of the new bonds form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4" name="Picture 5" descr="08_14"/>
          <p:cNvPicPr/>
          <p:nvPr/>
        </p:nvPicPr>
        <p:blipFill>
          <a:blip r:embed="rId1"/>
          <a:srcRect l="0" t="0" r="0" b="3723"/>
          <a:stretch/>
        </p:blipFill>
        <p:spPr>
          <a:xfrm>
            <a:off x="4572000" y="1839960"/>
            <a:ext cx="4267080" cy="37288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228600" y="5353200"/>
            <a:ext cx="74008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other wor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rx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bond enthalpies of bonds broken)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bond enthalpies of bonds form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l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HCl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is example, one C-H bond and one Cl-Cl bond are broken; one C-Cl and one H-Cl bond are form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9" name="Picture 4" descr="08_14"/>
          <p:cNvPicPr/>
          <p:nvPr/>
        </p:nvPicPr>
        <p:blipFill>
          <a:blip r:embed="rId1"/>
          <a:srcRect l="0" t="0" r="0" b="3723"/>
          <a:stretch/>
        </p:blipFill>
        <p:spPr>
          <a:xfrm>
            <a:off x="4572000" y="1839960"/>
            <a:ext cx="4267080" cy="372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-H) +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l-Cl)] - [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-Cl) +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H-Cl)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[(413 kJ) + (242 kJ)] - [(328 kJ) + (431 kJ)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(655 kJ) - (759 kJ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-104 kJ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nd Enthalpy and Bond L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can also measure an average bond length for different bond typ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bonds between two atoms increases, the bond length de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6" name="Picture 10" descr="08_T05"/>
          <p:cNvPicPr/>
          <p:nvPr/>
        </p:nvPicPr>
        <p:blipFill>
          <a:blip r:embed="rId1"/>
          <a:srcRect l="0" t="8449" r="0" b="7038"/>
          <a:stretch/>
        </p:blipFill>
        <p:spPr>
          <a:xfrm>
            <a:off x="1746360" y="1752480"/>
            <a:ext cx="5651280" cy="2286000"/>
          </a:xfrm>
          <a:prstGeom prst="rect">
            <a:avLst/>
          </a:prstGeom>
          <a:ln w="0">
            <a:noFill/>
          </a:ln>
        </p:spPr>
      </p:pic>
      <p:sp>
        <p:nvSpPr>
          <p:cNvPr id="257" name="Line 11"/>
          <p:cNvSpPr/>
          <p:nvPr/>
        </p:nvSpPr>
        <p:spPr>
          <a:xfrm>
            <a:off x="2666880" y="1762200"/>
            <a:ext cx="4114800" cy="0"/>
          </a:xfrm>
          <a:prstGeom prst="line">
            <a:avLst/>
          </a:prstGeom>
          <a:ln w="255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get 349 kJ/mol back by giving electrons to chlorin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0" name="Picture 7" descr="07_12EA"/>
          <p:cNvPicPr/>
          <p:nvPr/>
        </p:nvPicPr>
        <p:blipFill>
          <a:blip r:embed="rId1"/>
          <a:stretch/>
        </p:blipFill>
        <p:spPr>
          <a:xfrm>
            <a:off x="4764240" y="1981080"/>
            <a:ext cx="3576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t these numbers don’t explain why the reaction of sodium metal and chlorine gas to form sodium chloride is so exothermic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4" name="Picture 5" descr="08_02cropped"/>
          <p:cNvPicPr/>
          <p:nvPr/>
        </p:nvPicPr>
        <p:blipFill>
          <a:blip r:embed="rId1"/>
          <a:stretch/>
        </p:blipFill>
        <p:spPr>
          <a:xfrm>
            <a:off x="0" y="2003400"/>
            <a:ext cx="525780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must be a third piece to the puzz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at is as yet unaccounted for is the electrostatic attraction between the newly-formed sodium cation and chloride an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8" name="Picture 6" descr="02_21-02UN"/>
          <p:cNvPicPr/>
          <p:nvPr/>
        </p:nvPicPr>
        <p:blipFill>
          <a:blip r:embed="rId1"/>
          <a:srcRect l="0" t="0" r="0" b="5610"/>
          <a:stretch/>
        </p:blipFill>
        <p:spPr>
          <a:xfrm>
            <a:off x="4191120" y="1752480"/>
            <a:ext cx="4278240" cy="2008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02_21-03UN"/>
          <p:cNvPicPr/>
          <p:nvPr/>
        </p:nvPicPr>
        <p:blipFill>
          <a:blip r:embed="rId2"/>
          <a:srcRect l="0" t="0" r="0" b="6976"/>
          <a:stretch/>
        </p:blipFill>
        <p:spPr>
          <a:xfrm>
            <a:off x="4191120" y="3733920"/>
            <a:ext cx="4653000" cy="200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attice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third piece of the puzzle is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lattice energy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he energy required to completely separate a mole of a solid ionic compound into its gaseous 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nergy associated with electrostatic interactions is governed by Coulomb’s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366360" y="5181480"/>
            <a:ext cx="2466000" cy="1136160"/>
            <a:chOff x="3366360" y="5181480"/>
            <a:chExt cx="2466000" cy="1136160"/>
          </a:xfrm>
        </p:grpSpPr>
        <p:sp>
          <p:nvSpPr>
            <p:cNvPr id="84" name="Rectangle 5"/>
            <p:cNvSpPr/>
            <p:nvPr/>
          </p:nvSpPr>
          <p:spPr>
            <a:xfrm>
              <a:off x="3366360" y="5425920"/>
              <a:ext cx="132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el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8"/>
            <p:cNvGrpSpPr/>
            <p:nvPr/>
          </p:nvGrpSpPr>
          <p:grpSpPr>
            <a:xfrm>
              <a:off x="4689360" y="5181480"/>
              <a:ext cx="1143000" cy="1136160"/>
              <a:chOff x="4689360" y="5181480"/>
              <a:chExt cx="1143000" cy="1136160"/>
            </a:xfrm>
          </p:grpSpPr>
          <p:sp>
            <p:nvSpPr>
              <p:cNvPr id="86" name="Rectangle 6"/>
              <p:cNvSpPr/>
              <p:nvPr/>
            </p:nvSpPr>
            <p:spPr>
              <a:xfrm>
                <a:off x="4737960" y="5181480"/>
                <a:ext cx="103104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Q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1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Q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4689360" y="5773680"/>
                <a:ext cx="11430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attice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attice energy, then, increases with the charge on the 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6320" y="289548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also increases with decreasing size of 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08_T02"/>
          <p:cNvPicPr/>
          <p:nvPr/>
        </p:nvPicPr>
        <p:blipFill>
          <a:blip r:embed="rId1"/>
          <a:srcRect l="0" t="8402" r="0" b="3932"/>
          <a:stretch/>
        </p:blipFill>
        <p:spPr>
          <a:xfrm>
            <a:off x="3581280" y="2590920"/>
            <a:ext cx="48769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3:14:25Z</dcterms:created>
  <dc:creator>John Bookstaver</dc:creator>
  <dc:description/>
  <dc:language>en-US</dc:language>
  <cp:lastModifiedBy>Windows User</cp:lastModifiedBy>
  <dcterms:modified xsi:type="dcterms:W3CDTF">2012-03-20T11:52:05Z</dcterms:modified>
  <cp:revision>54</cp:revision>
  <dc:subject/>
  <dc:title>Chapter 8 Concepts of Chemical Bonding</dc:title>
</cp:coreProperties>
</file>